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2EB-BB86-4C91-9B4C-7C207E65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63E-1745-4215-844F-4177A0C3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8B6-D1B5-4921-B9D8-6FAD842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16A-705B-4F15-83A9-5C2C36C8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DD8-F96B-4874-B9CD-32A53BB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74D-2EFC-44A1-9637-9C56C196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120-6286-47F7-B8CE-9A26BC9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909-BDCC-414B-B40B-B98CF97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ADE-E170-4E70-A3D1-4DC8150C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5A0-521C-4CCF-B495-C9B895B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BBE-2C84-425D-85FE-BF6C87F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D07-748D-4D5A-806E-6055181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FBBC-B700-4210-8358-07FB9CDAD4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Cowboy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galloped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oundup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huckwag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ellowe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att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rail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owbo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her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ampfir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ailroa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5-02T14:01:27Z</dcterms:modified>
  <cp:revision>39</cp:revision>
  <dc:subject/>
  <dc:title>Password</dc:title>
</cp:coreProperties>
</file>